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5013-FCE5-4D8F-92C5-EDC27325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A36-3EE7-4238-9A38-957B6BBA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A03-2FCE-4C84-A9D0-4CC4FC3D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A39-1ECE-4476-9506-53014BB4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C27-9B8D-42B9-8D46-E8D3AB11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5E8-8B86-4DC3-B7ED-DE26066C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41BF-1E81-4FDC-A658-9228E04A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28FC-DAD6-4938-A95B-51307C5E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F3E-A674-485A-B284-5C43BB2D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74C-667D-448B-8668-A5928BB1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371-D3DF-41C3-98A7-A9802C01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6F56-EFC3-487A-8B77-46DB369B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2307-E9E5-41A1-A962-5B5978BD5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032" t="10420" r="7032" b="8333"/>
          <a:stretch/>
        </p:blipFill>
        <p:spPr>
          <a:xfrm>
            <a:off x="380880" y="533520"/>
            <a:ext cx="838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7811" t="10420" r="7811" b="9376"/>
          <a:stretch/>
        </p:blipFill>
        <p:spPr>
          <a:xfrm>
            <a:off x="0" y="152280"/>
            <a:ext cx="914400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7811" t="10420" r="7032" b="10420"/>
          <a:stretch/>
        </p:blipFill>
        <p:spPr>
          <a:xfrm>
            <a:off x="457200" y="533520"/>
            <a:ext cx="8305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7811" t="10420" r="7032" b="10420"/>
          <a:stretch/>
        </p:blipFill>
        <p:spPr>
          <a:xfrm>
            <a:off x="457200" y="533520"/>
            <a:ext cx="8305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7811" t="10420" r="7032" b="10420"/>
          <a:stretch/>
        </p:blipFill>
        <p:spPr>
          <a:xfrm>
            <a:off x="457200" y="533520"/>
            <a:ext cx="8305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7811" t="10420" r="7032" b="10420"/>
          <a:stretch/>
        </p:blipFill>
        <p:spPr>
          <a:xfrm>
            <a:off x="457200" y="533520"/>
            <a:ext cx="8305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7811" t="11458" r="0" b="0"/>
          <a:stretch/>
        </p:blipFill>
        <p:spPr>
          <a:xfrm>
            <a:off x="152280" y="0"/>
            <a:ext cx="8991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4:26:03Z</dcterms:created>
  <dc:creator>Chris Yeager</dc:creator>
  <dc:description/>
  <dc:language>en-US</dc:language>
  <cp:lastModifiedBy>Chris Yeager</cp:lastModifiedBy>
  <dcterms:modified xsi:type="dcterms:W3CDTF">2005-03-22T14:32:15Z</dcterms:modified>
  <cp:revision>2</cp:revision>
  <dc:subject/>
  <dc:title>Slide 1</dc:title>
</cp:coreProperties>
</file>